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63C79-3A4A-4D1C-80C7-1BBE426C4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5C45E-D2BB-444B-9F88-6C306C4C0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8AC63-2890-471A-8335-2A065BBB9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4FA6E-DE96-425B-8E20-8CD1C5598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ED39B-31FB-4206-A66C-07324CCA8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60EC9-5CC1-44CB-975E-FF311ED41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248B6-1767-41AC-A8FF-952D1AC0B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A113B-D6F6-4FF5-8C67-330FF4B79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907FD-40DF-4D5F-ACBC-463E940C1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9AF91-C9F8-48BC-87E9-98C19ECBC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7B1AF-E638-4D79-BE3E-84B8D39D1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9B46D-7CC5-4554-80FE-238553166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2AB9E-77A9-446A-9126-14DFA3CC073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anguage Focu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79200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 The couple used up all their money to seek their 5-year-old son, who got lost months ag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Use up 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</a:rPr>
              <a:t>用完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,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</a:rPr>
              <a:t>用尽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,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</a:rPr>
              <a:t>筋疲力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g: I have used up all the clu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oldiers were used up after the long batt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　２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was only later that the world recognized his greatnes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</a:rPr>
              <a:t>本句为强调句，原句式为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nguage Foc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4360" y="1557000"/>
            <a:ext cx="7920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ter the world recognized his greatnes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00"/>
                </a:solidFill>
                <a:latin typeface="Times New Roman"/>
              </a:rPr>
              <a:t>强调句的结构为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It is / was … that / who …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例如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was I that/who saw a film in the Youth Palace last night.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强调主语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was a film that I saw in the Youth Palace last night.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强调宾语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was last night that I saw a film in the Youth Palace .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强调时间状语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4000" y="189000"/>
            <a:ext cx="8064360" cy="64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was in the Youth Palace that I saw a film last night.(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强调地点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was because he mother was ill that she didn’t go with us.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强调原因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…only by discovering what we do best can we hope to reach our goals and truly make a differe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00"/>
                </a:solidFill>
                <a:latin typeface="Times New Roman"/>
              </a:rPr>
              <a:t>倒装句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．正常语序应该是：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hope to reach our goals and truly make a difference by discovering what we do bes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Times New Roman"/>
              </a:rPr>
              <a:t>用倒装的目的是为了加强语气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，例如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ly then did I realize its impirta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nguage Foc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ly in this way can we solve the probl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ly when people lose freedom do they know its valu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 </cp:lastModifiedBy>
  <dcterms:modified xsi:type="dcterms:W3CDTF">2004-08-15T15:13:32Z</dcterms:modified>
  <cp:revision>2</cp:revision>
  <dc:subject/>
  <dc:title>PowerPoint Presentation</dc:title>
</cp:coreProperties>
</file>